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9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wmf" ContentType="image/x-wmf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8.png" ContentType="image/png"/>
  <Override PartName="/ppt/media/image13.png" ContentType="image/png"/>
  <Override PartName="/ppt/media/image12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623E6-3515-4674-9B50-4E166DB099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17680" y="1682280"/>
            <a:ext cx="7399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417680" y="4030920"/>
            <a:ext cx="7399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8D3BF-7221-47FA-91CD-F6768AA1C2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17680" y="1682280"/>
            <a:ext cx="3610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09560" y="1682280"/>
            <a:ext cx="3610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17680" y="4030920"/>
            <a:ext cx="3610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209560" y="4030920"/>
            <a:ext cx="3610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4E1BE-15F7-4925-AED6-87F9A09FFF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417680" y="1682280"/>
            <a:ext cx="23824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19680" y="1682280"/>
            <a:ext cx="23824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21680" y="1682280"/>
            <a:ext cx="23824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417680" y="4030920"/>
            <a:ext cx="23824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19680" y="4030920"/>
            <a:ext cx="23824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21680" y="4030920"/>
            <a:ext cx="23824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4386C-5C81-4932-8EDB-A9805F21C0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17680" y="1682280"/>
            <a:ext cx="73994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17680" y="1682280"/>
            <a:ext cx="73994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17680" y="1682280"/>
            <a:ext cx="361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09560" y="1682280"/>
            <a:ext cx="361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41360" y="698040"/>
            <a:ext cx="69343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17680" y="1682280"/>
            <a:ext cx="3610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09560" y="1682280"/>
            <a:ext cx="361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17680" y="4030920"/>
            <a:ext cx="3610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417680" y="1682280"/>
            <a:ext cx="73994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4BF14-5EB7-4291-A1FA-C89DF9602C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17680" y="1682280"/>
            <a:ext cx="361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09560" y="1682280"/>
            <a:ext cx="3610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209560" y="4030920"/>
            <a:ext cx="3610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17680" y="1682280"/>
            <a:ext cx="3610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09560" y="1682280"/>
            <a:ext cx="3610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417680" y="4030920"/>
            <a:ext cx="7399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17680" y="1682280"/>
            <a:ext cx="7399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417680" y="4030920"/>
            <a:ext cx="7399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17680" y="1682280"/>
            <a:ext cx="3610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09560" y="1682280"/>
            <a:ext cx="3610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17680" y="4030920"/>
            <a:ext cx="3610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209560" y="4030920"/>
            <a:ext cx="3610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17680" y="1682280"/>
            <a:ext cx="23824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919680" y="1682280"/>
            <a:ext cx="23824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421680" y="1682280"/>
            <a:ext cx="23824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417680" y="4030920"/>
            <a:ext cx="23824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919680" y="4030920"/>
            <a:ext cx="23824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421680" y="4030920"/>
            <a:ext cx="23824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17680" y="1682280"/>
            <a:ext cx="73994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0BAC4-EE72-4630-9DC1-8C94CBC3C4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17680" y="1682280"/>
            <a:ext cx="361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09560" y="1682280"/>
            <a:ext cx="361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8C2DF-47BC-47BC-B00F-BEDE3EBF7A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9DDB2-AC1E-4E2B-B9B0-11CE2B5485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41360" y="698040"/>
            <a:ext cx="69343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E70C7-DAEB-45AF-B675-BA7B97FCB1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17680" y="1682280"/>
            <a:ext cx="3610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09560" y="1682280"/>
            <a:ext cx="361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417680" y="4030920"/>
            <a:ext cx="3610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86F74-10E1-478C-8860-4144D8ADFF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17680" y="1682280"/>
            <a:ext cx="361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09560" y="1682280"/>
            <a:ext cx="3610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209560" y="4030920"/>
            <a:ext cx="3610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0BC1D-0B41-4B97-81D0-3733BD0671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17680" y="1682280"/>
            <a:ext cx="3610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09560" y="1682280"/>
            <a:ext cx="3610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417680" y="4030920"/>
            <a:ext cx="73994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01389-DA0E-4D0D-9236-1BF6F119D5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17680" y="1682280"/>
            <a:ext cx="73994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2872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424160" indent="-27972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828800" indent="-2602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233440" indent="-2124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233440" indent="-212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233440" indent="-212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752400" y="0"/>
            <a:ext cx="0" cy="68580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270640" y="6477120"/>
            <a:ext cx="62532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C68D0-9A6F-464B-8153-D4F29477CFB2}" type="slidenum"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955800" y="158760"/>
            <a:ext cx="149040" cy="6540480"/>
            <a:chOff x="955800" y="158760"/>
            <a:chExt cx="149040" cy="6540480"/>
          </a:xfrm>
        </p:grpSpPr>
        <p:sp>
          <p:nvSpPr>
            <p:cNvPr id="5" name="Freeform 7"/>
            <p:cNvSpPr/>
            <p:nvPr/>
          </p:nvSpPr>
          <p:spPr>
            <a:xfrm>
              <a:off x="955800" y="158760"/>
              <a:ext cx="149040" cy="654048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6540480"/>
                <a:gd name="textAreaBottom" fmla="*/ 6540840 h 6540480"/>
              </a:gdLst>
              <a:ahLst/>
              <a:rect l="textAreaLeft" t="textAreaTop" r="textAreaRight" b="textAreaBottom"/>
              <a:pathLst>
                <a:path w="94" h="4120">
                  <a:moveTo>
                    <a:pt x="94" y="0"/>
                  </a:moveTo>
                  <a:lnTo>
                    <a:pt x="0" y="0"/>
                  </a:lnTo>
                  <a:lnTo>
                    <a:pt x="0" y="412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AutoShape 8"/>
            <p:cNvSpPr/>
            <p:nvPr/>
          </p:nvSpPr>
          <p:spPr>
            <a:xfrm rot="5400000">
              <a:off x="979560" y="6582960"/>
              <a:ext cx="96840" cy="132840"/>
            </a:xfrm>
            <a:prstGeom prst="triangle">
              <a:avLst>
                <a:gd name="adj" fmla="val 46574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5" descr="Picture6"/>
          <p:cNvPicPr/>
          <p:nvPr/>
        </p:nvPicPr>
        <p:blipFill>
          <a:blip r:embed="rId2"/>
          <a:stretch/>
        </p:blipFill>
        <p:spPr>
          <a:xfrm>
            <a:off x="0" y="0"/>
            <a:ext cx="878040" cy="6946920"/>
          </a:xfrm>
          <a:prstGeom prst="rect">
            <a:avLst/>
          </a:prstGeom>
          <a:ln w="0">
            <a:noFill/>
          </a:ln>
        </p:spPr>
      </p:pic>
      <p:pic>
        <p:nvPicPr>
          <p:cNvPr id="9" name="Picture 17" descr=""/>
          <p:cNvPicPr/>
          <p:nvPr/>
        </p:nvPicPr>
        <p:blipFill>
          <a:blip r:embed="rId3"/>
          <a:stretch/>
        </p:blipFill>
        <p:spPr>
          <a:xfrm>
            <a:off x="8077320" y="133200"/>
            <a:ext cx="968400" cy="68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c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6"/>
          <p:cNvSpPr/>
          <p:nvPr/>
        </p:nvSpPr>
        <p:spPr>
          <a:xfrm>
            <a:off x="0" y="3048120"/>
            <a:ext cx="9144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Picture5"/>
          <p:cNvPicPr/>
          <p:nvPr/>
        </p:nvPicPr>
        <p:blipFill>
          <a:blip r:embed="rId2"/>
          <a:stretch/>
        </p:blipFill>
        <p:spPr>
          <a:xfrm>
            <a:off x="0" y="3048120"/>
            <a:ext cx="9198000" cy="3809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"/>
          <p:cNvPicPr/>
          <p:nvPr/>
        </p:nvPicPr>
        <p:blipFill>
          <a:blip r:embed="rId3"/>
          <a:stretch/>
        </p:blipFill>
        <p:spPr>
          <a:xfrm>
            <a:off x="25560" y="2073240"/>
            <a:ext cx="1269720" cy="8985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417680" y="1682280"/>
            <a:ext cx="73994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2872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424160" indent="-27972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828800" indent="-2602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233440" indent="-2124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233440" indent="-212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233440" indent="-212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182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6382e"/>
                </a:solidFill>
                <a:latin typeface="Arial"/>
              </a:rPr>
              <a:t>Microsoft Office 2007- Illustrated Introductory, Premium Video Edi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752120" y="1905120"/>
            <a:ext cx="6705720" cy="712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Getting Started with Excel 2007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5"/>
          <p:cNvSpPr/>
          <p:nvPr/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3" descr=""/>
          <p:cNvPicPr/>
          <p:nvPr/>
        </p:nvPicPr>
        <p:blipFill>
          <a:blip r:embed="rId1"/>
          <a:stretch/>
        </p:blipFill>
        <p:spPr>
          <a:xfrm>
            <a:off x="3287880" y="1676520"/>
            <a:ext cx="5475240" cy="410364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77640" y="495000"/>
            <a:ext cx="693396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Touring the Excel 2007</a:t>
            </a:r>
            <a:br>
              <a:rPr sz="3600"/>
            </a:b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Window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AutoShape 4"/>
          <p:cNvSpPr/>
          <p:nvPr/>
        </p:nvSpPr>
        <p:spPr>
          <a:xfrm>
            <a:off x="1066680" y="1523880"/>
            <a:ext cx="1868760" cy="914400"/>
          </a:xfrm>
          <a:prstGeom prst="borderCallout1">
            <a:avLst>
              <a:gd name="adj1" fmla="val 18750"/>
              <a:gd name="adj2" fmla="val -8333"/>
              <a:gd name="adj3" fmla="val 98092"/>
              <a:gd name="adj4" fmla="val 131518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4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box and current cell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1192320" y="3809880"/>
            <a:ext cx="1243080" cy="633600"/>
          </a:xfrm>
          <a:prstGeom prst="borderCallout1">
            <a:avLst>
              <a:gd name="adj1" fmla="val 18750"/>
              <a:gd name="adj2" fmla="val -8333"/>
              <a:gd name="adj3" fmla="val -197745"/>
              <a:gd name="adj4" fmla="val 301148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4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 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7"/>
          <p:cNvSpPr/>
          <p:nvPr/>
        </p:nvSpPr>
        <p:spPr>
          <a:xfrm>
            <a:off x="1447920" y="6019920"/>
            <a:ext cx="1360440" cy="377640"/>
          </a:xfrm>
          <a:prstGeom prst="borderCallout1">
            <a:avLst>
              <a:gd name="adj1" fmla="val 18750"/>
              <a:gd name="adj2" fmla="val -8333"/>
              <a:gd name="adj3" fmla="val -99157"/>
              <a:gd name="adj4" fmla="val 186699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4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et ta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1"/>
          <p:cNvSpPr/>
          <p:nvPr/>
        </p:nvSpPr>
        <p:spPr>
          <a:xfrm>
            <a:off x="1219320" y="2971800"/>
            <a:ext cx="1274760" cy="633240"/>
          </a:xfrm>
          <a:prstGeom prst="borderCallout1">
            <a:avLst>
              <a:gd name="adj1" fmla="val 18750"/>
              <a:gd name="adj2" fmla="val -8333"/>
              <a:gd name="adj3" fmla="val -27569"/>
              <a:gd name="adj4" fmla="val 185555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4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ll poi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5"/>
          <p:cNvSpPr/>
          <p:nvPr/>
        </p:nvSpPr>
        <p:spPr>
          <a:xfrm>
            <a:off x="7304040" y="6172200"/>
            <a:ext cx="1360440" cy="378000"/>
          </a:xfrm>
          <a:prstGeom prst="borderCallout1">
            <a:avLst>
              <a:gd name="adj1" fmla="val 18750"/>
              <a:gd name="adj2" fmla="val -8333"/>
              <a:gd name="adj3" fmla="val -113023"/>
              <a:gd name="adj4" fmla="val -77129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4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us 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0"/>
          <p:cNvSpPr/>
          <p:nvPr/>
        </p:nvSpPr>
        <p:spPr>
          <a:xfrm>
            <a:off x="4876920" y="121932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Open work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4"/>
          <p:cNvSpPr/>
          <p:nvPr/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Understanding Formulas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17680" y="1682280"/>
            <a:ext cx="73994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Formulas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are equations in a workshee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xcel formulas allow users at every level of mathematical expertise to make calculations with accuracy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4"/>
          <p:cNvSpPr/>
          <p:nvPr/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Understanding Formulas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17680" y="1682280"/>
            <a:ext cx="73994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When creating calculations in Excel, it is important to: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2872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Know where the formulas should b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2872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Know exactly what cells and arithmetic operations are needed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2872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reate formulas with car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2872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Use cell references rather than valu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2872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etermine what calculations will be needed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4"/>
          <p:cNvSpPr/>
          <p:nvPr/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Understanding Formulas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31" name="Picture 6" descr=""/>
          <p:cNvPicPr/>
          <p:nvPr/>
        </p:nvPicPr>
        <p:blipFill>
          <a:blip r:embed="rId1"/>
          <a:srcRect l="0" t="0" r="28944" b="3052"/>
          <a:stretch/>
        </p:blipFill>
        <p:spPr>
          <a:xfrm>
            <a:off x="3429000" y="2133720"/>
            <a:ext cx="5257800" cy="3429000"/>
          </a:xfrm>
          <a:prstGeom prst="rect">
            <a:avLst/>
          </a:prstGeom>
          <a:ln w="0">
            <a:noFill/>
          </a:ln>
        </p:spPr>
      </p:pic>
      <p:sp>
        <p:nvSpPr>
          <p:cNvPr id="132" name="AutoShape 7"/>
          <p:cNvSpPr/>
          <p:nvPr/>
        </p:nvSpPr>
        <p:spPr>
          <a:xfrm>
            <a:off x="1295280" y="2286000"/>
            <a:ext cx="1752840" cy="914400"/>
          </a:xfrm>
          <a:prstGeom prst="borderCallout1">
            <a:avLst>
              <a:gd name="adj1" fmla="val 18750"/>
              <a:gd name="adj2" fmla="val -8333"/>
              <a:gd name="adj3" fmla="val 98092"/>
              <a:gd name="adj4" fmla="val 224638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4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 appears in formula 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8"/>
          <p:cNvSpPr/>
          <p:nvPr/>
        </p:nvSpPr>
        <p:spPr>
          <a:xfrm>
            <a:off x="1295280" y="4572000"/>
            <a:ext cx="1676520" cy="685800"/>
          </a:xfrm>
          <a:prstGeom prst="borderCallout1">
            <a:avLst>
              <a:gd name="adj1" fmla="val 18750"/>
              <a:gd name="adj2" fmla="val -8333"/>
              <a:gd name="adj3" fmla="val -61574"/>
              <a:gd name="adj4" fmla="val 276324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4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 of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6"/>
          <p:cNvSpPr/>
          <p:nvPr/>
        </p:nvSpPr>
        <p:spPr>
          <a:xfrm>
            <a:off x="3352680" y="1523880"/>
            <a:ext cx="295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Viewing a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4"/>
          <p:cNvSpPr/>
          <p:nvPr/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Understanding Formulas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37" name="Picture 5" descr=""/>
          <p:cNvPicPr/>
          <p:nvPr/>
        </p:nvPicPr>
        <p:blipFill>
          <a:blip r:embed="rId1"/>
          <a:stretch/>
        </p:blipFill>
        <p:spPr>
          <a:xfrm>
            <a:off x="1811160" y="2684520"/>
            <a:ext cx="6610680" cy="249084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6"/>
          <p:cNvSpPr/>
          <p:nvPr/>
        </p:nvSpPr>
        <p:spPr>
          <a:xfrm>
            <a:off x="1752480" y="205740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Excel arithmetic op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4"/>
          <p:cNvSpPr/>
          <p:nvPr/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Entering Labels and Values</a:t>
            </a:r>
            <a:br>
              <a:rPr sz="3600"/>
            </a:b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and Using AutoSum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17680" y="1599840"/>
            <a:ext cx="7399440" cy="47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Labels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contain text and numerical information not used in calculation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2872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Labels help you identify data in worksheet rows and column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2872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You should enter all the labels first before entering other conten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Values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are numbers, formulas, and functions that can be used in calculation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4"/>
          <p:cNvSpPr/>
          <p:nvPr/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Entering Labels and Values</a:t>
            </a:r>
            <a:br>
              <a:rPr sz="3600"/>
            </a:b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and Using AutoSum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417680" y="1599840"/>
            <a:ext cx="7399440" cy="47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function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is a built-in formula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2872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 function includes </a:t>
            </a: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arguments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, the information necessary for the calculation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ing the AutoSum button sums the adjacent range above or to the left, though you can adjust the rang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e Fill button fills cells based on the first number sequence in the rang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4"/>
          <p:cNvSpPr/>
          <p:nvPr/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2" descr=""/>
          <p:cNvPicPr/>
          <p:nvPr/>
        </p:nvPicPr>
        <p:blipFill>
          <a:blip r:embed="rId1"/>
          <a:srcRect l="0" t="0" r="11828" b="0"/>
          <a:stretch/>
        </p:blipFill>
        <p:spPr>
          <a:xfrm>
            <a:off x="1447920" y="2514600"/>
            <a:ext cx="6248160" cy="366408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Entering Labels and Values</a:t>
            </a:r>
            <a:br>
              <a:rPr sz="3600"/>
            </a:b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and Using AutoSum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" name="AutoShape 5"/>
          <p:cNvSpPr/>
          <p:nvPr/>
        </p:nvSpPr>
        <p:spPr>
          <a:xfrm>
            <a:off x="5410080" y="4800600"/>
            <a:ext cx="1600200" cy="990720"/>
          </a:xfrm>
          <a:prstGeom prst="borderCallout1">
            <a:avLst>
              <a:gd name="adj1" fmla="val 18750"/>
              <a:gd name="adj2" fmla="val -8333"/>
              <a:gd name="adj3" fmla="val 11055"/>
              <a:gd name="adj4" fmla="val -151388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4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lls included i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6"/>
          <p:cNvSpPr/>
          <p:nvPr/>
        </p:nvSpPr>
        <p:spPr>
          <a:xfrm>
            <a:off x="380880" y="2895480"/>
            <a:ext cx="1127160" cy="457200"/>
          </a:xfrm>
          <a:prstGeom prst="borderCallout1">
            <a:avLst>
              <a:gd name="adj1" fmla="val 18750"/>
              <a:gd name="adj2" fmla="val -8333"/>
              <a:gd name="adj3" fmla="val 134375"/>
              <a:gd name="adj4" fmla="val 24633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4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7"/>
          <p:cNvSpPr/>
          <p:nvPr/>
        </p:nvSpPr>
        <p:spPr>
          <a:xfrm>
            <a:off x="7696080" y="2133720"/>
            <a:ext cx="1219320" cy="685800"/>
          </a:xfrm>
          <a:prstGeom prst="borderCallout1">
            <a:avLst>
              <a:gd name="adj1" fmla="val 18750"/>
              <a:gd name="adj2" fmla="val -8333"/>
              <a:gd name="adj3" fmla="val 106944"/>
              <a:gd name="adj4" fmla="val -22916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4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Sum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1295280" y="175248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reating a formula using the AutoSum 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3"/>
          <p:cNvSpPr/>
          <p:nvPr/>
        </p:nvSpPr>
        <p:spPr>
          <a:xfrm>
            <a:off x="7848720" y="3276720"/>
            <a:ext cx="1218960" cy="457200"/>
          </a:xfrm>
          <a:prstGeom prst="borderCallout1">
            <a:avLst>
              <a:gd name="adj1" fmla="val 18750"/>
              <a:gd name="adj2" fmla="val -8333"/>
              <a:gd name="adj3" fmla="val -22916"/>
              <a:gd name="adj4" fmla="val -29166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4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l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4"/>
          <p:cNvSpPr/>
          <p:nvPr/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Editing Cell Entries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17680" y="1682280"/>
            <a:ext cx="73994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You can change, or </a:t>
            </a: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edit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, the contents of an active cell at any tim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o edit the contents of the active cell: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2872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ouble-click the cell, or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2872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in the formula bar, or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2872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Just start typing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xcel switches to Edit mode when you are making cell entri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Editing Cell Entries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58" name="Picture 5" descr=""/>
          <p:cNvPicPr/>
          <p:nvPr/>
        </p:nvPicPr>
        <p:blipFill>
          <a:blip r:embed="rId1"/>
          <a:stretch/>
        </p:blipFill>
        <p:spPr>
          <a:xfrm>
            <a:off x="2824200" y="2081160"/>
            <a:ext cx="5557680" cy="4167360"/>
          </a:xfrm>
          <a:prstGeom prst="rect">
            <a:avLst/>
          </a:prstGeom>
          <a:ln w="0">
            <a:noFill/>
          </a:ln>
        </p:spPr>
      </p:pic>
      <p:sp>
        <p:nvSpPr>
          <p:cNvPr id="159" name="AutoShape 6"/>
          <p:cNvSpPr/>
          <p:nvPr/>
        </p:nvSpPr>
        <p:spPr>
          <a:xfrm>
            <a:off x="1295280" y="2514600"/>
            <a:ext cx="1143000" cy="685800"/>
          </a:xfrm>
          <a:prstGeom prst="borderCallout1">
            <a:avLst>
              <a:gd name="adj1" fmla="val 18750"/>
              <a:gd name="adj2" fmla="val -8333"/>
              <a:gd name="adj3" fmla="val 163587"/>
              <a:gd name="adj4" fmla="val 150763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4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e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7"/>
          <p:cNvSpPr/>
          <p:nvPr/>
        </p:nvSpPr>
        <p:spPr>
          <a:xfrm>
            <a:off x="1143000" y="3962520"/>
            <a:ext cx="1127160" cy="761760"/>
          </a:xfrm>
          <a:prstGeom prst="borderCallout1">
            <a:avLst>
              <a:gd name="adj1" fmla="val 18750"/>
              <a:gd name="adj2" fmla="val -8333"/>
              <a:gd name="adj3" fmla="val -131666"/>
              <a:gd name="adj4" fmla="val 300282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4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ion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8"/>
          <p:cNvSpPr/>
          <p:nvPr/>
        </p:nvSpPr>
        <p:spPr>
          <a:xfrm>
            <a:off x="1143000" y="5562720"/>
            <a:ext cx="1127160" cy="761760"/>
          </a:xfrm>
          <a:prstGeom prst="borderCallout1">
            <a:avLst>
              <a:gd name="adj1" fmla="val 18750"/>
              <a:gd name="adj2" fmla="val -8333"/>
              <a:gd name="adj3" fmla="val 74791"/>
              <a:gd name="adj4" fmla="val 145634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4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 indic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2666880" y="14479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Worksheet in Ed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4"/>
          <p:cNvSpPr/>
          <p:nvPr/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417680" y="1682280"/>
            <a:ext cx="73994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Understand spreadsheet softwar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our the Excel 2007 window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Understand formula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nter labels and values and use AutoSum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4"/>
          <p:cNvSpPr/>
          <p:nvPr/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Editing Cell Entries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1752480" y="213372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ommon pointers in Exc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Object 11"/>
          <p:cNvGraphicFramePr/>
          <p:nvPr/>
        </p:nvGraphicFramePr>
        <p:xfrm>
          <a:off x="1816200" y="2895480"/>
          <a:ext cx="64897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6200" y="2895480"/>
                    <a:ext cx="64897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4"/>
          <p:cNvSpPr/>
          <p:nvPr/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Entering and Editing a Simple Formula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17680" y="1682280"/>
            <a:ext cx="73994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rmulas start with the equal sign (=), also called the </a:t>
            </a: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formula prefix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Calculation operators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in formulas indicate what type of calculation you want to perform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Arithmetic operators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perform mathematical calculations such as adding and subtracting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4"/>
          <p:cNvSpPr/>
          <p:nvPr/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Entering and Editing a Simple Formula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17680" y="1682280"/>
            <a:ext cx="73994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Comparison operators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compare values for the purpose of true/false resul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Text concatenation operators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join strings of text in different cell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Reference operators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enable you to use ranges in calculation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4"/>
          <p:cNvSpPr/>
          <p:nvPr/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Switching Worksheet Views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417680" y="1682280"/>
            <a:ext cx="73994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You can change your view of the worksheet window by using either: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2872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View tab on the Ribbon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2872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View buttons on the status bar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Normal view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shows the worksheet without including headers and footers or tools like rulers and a page number indicator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4"/>
          <p:cNvSpPr/>
          <p:nvPr/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Switching Worksheet Views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417680" y="1682280"/>
            <a:ext cx="73994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Page Layout View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provides a more accurate view of how a worksheet will look when printed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896040" indent="-28152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 shows page margins, headers and footers, rulers, etc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Page Break Preview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displays a reduced view of each page of the worksheet, along with page break indicator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4"/>
          <p:cNvSpPr/>
          <p:nvPr/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Switching Worksheet Views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2438280" y="175248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Page Layout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6" descr=""/>
          <p:cNvPicPr/>
          <p:nvPr/>
        </p:nvPicPr>
        <p:blipFill>
          <a:blip r:embed="rId1"/>
          <a:stretch/>
        </p:blipFill>
        <p:spPr>
          <a:xfrm>
            <a:off x="2571840" y="2362320"/>
            <a:ext cx="5091120" cy="381636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7"/>
          <p:cNvSpPr/>
          <p:nvPr/>
        </p:nvSpPr>
        <p:spPr>
          <a:xfrm>
            <a:off x="685800" y="2514600"/>
            <a:ext cx="1660680" cy="685800"/>
          </a:xfrm>
          <a:prstGeom prst="borderCallout1">
            <a:avLst>
              <a:gd name="adj1" fmla="val 18750"/>
              <a:gd name="adj2" fmla="val -8333"/>
              <a:gd name="adj3" fmla="val 71990"/>
              <a:gd name="adj4" fmla="val 125046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4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book Views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8"/>
          <p:cNvSpPr/>
          <p:nvPr/>
        </p:nvSpPr>
        <p:spPr>
          <a:xfrm>
            <a:off x="762120" y="3581280"/>
            <a:ext cx="1508040" cy="685800"/>
          </a:xfrm>
          <a:prstGeom prst="borderCallout1">
            <a:avLst>
              <a:gd name="adj1" fmla="val 18750"/>
              <a:gd name="adj2" fmla="val -8333"/>
              <a:gd name="adj3" fmla="val 11805"/>
              <a:gd name="adj4" fmla="val 230629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4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der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9"/>
          <p:cNvSpPr/>
          <p:nvPr/>
        </p:nvSpPr>
        <p:spPr>
          <a:xfrm>
            <a:off x="914400" y="4572000"/>
            <a:ext cx="1279440" cy="685800"/>
          </a:xfrm>
          <a:prstGeom prst="borderCallout1">
            <a:avLst>
              <a:gd name="adj1" fmla="val 18750"/>
              <a:gd name="adj2" fmla="val -8333"/>
              <a:gd name="adj3" fmla="val -6481"/>
              <a:gd name="adj4" fmla="val 12853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4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tical ru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0"/>
          <p:cNvSpPr/>
          <p:nvPr/>
        </p:nvSpPr>
        <p:spPr>
          <a:xfrm>
            <a:off x="7375680" y="1523880"/>
            <a:ext cx="1508040" cy="685800"/>
          </a:xfrm>
          <a:prstGeom prst="borderCallout1">
            <a:avLst>
              <a:gd name="adj1" fmla="val 18750"/>
              <a:gd name="adj2" fmla="val -8333"/>
              <a:gd name="adj3" fmla="val 242592"/>
              <a:gd name="adj4" fmla="val -124000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4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rizontal ru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4"/>
          <p:cNvSpPr/>
          <p:nvPr/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Object 9"/>
          <p:cNvGraphicFramePr/>
          <p:nvPr/>
        </p:nvGraphicFramePr>
        <p:xfrm>
          <a:off x="3152880" y="2362320"/>
          <a:ext cx="4924440" cy="38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52880" y="2362320"/>
                    <a:ext cx="492444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Switching Worksheet Views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3048120" y="17524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Page Break P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7"/>
          <p:cNvSpPr/>
          <p:nvPr/>
        </p:nvSpPr>
        <p:spPr>
          <a:xfrm>
            <a:off x="1219320" y="4343400"/>
            <a:ext cx="1431720" cy="1066680"/>
          </a:xfrm>
          <a:prstGeom prst="borderCallout1">
            <a:avLst>
              <a:gd name="adj1" fmla="val 18750"/>
              <a:gd name="adj2" fmla="val -8333"/>
              <a:gd name="adj3" fmla="val 5504"/>
              <a:gd name="adj4" fmla="val 32771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4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ue outline indicates print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8"/>
          <p:cNvSpPr/>
          <p:nvPr/>
        </p:nvSpPr>
        <p:spPr>
          <a:xfrm>
            <a:off x="7315200" y="3581280"/>
            <a:ext cx="1492200" cy="914400"/>
          </a:xfrm>
          <a:prstGeom prst="borderCallout1">
            <a:avLst>
              <a:gd name="adj1" fmla="val 18750"/>
              <a:gd name="adj2" fmla="val -8333"/>
              <a:gd name="adj3" fmla="val 262847"/>
              <a:gd name="adj4" fmla="val -158615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4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tom page break indic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0"/>
          <p:cNvSpPr/>
          <p:nvPr/>
        </p:nvSpPr>
        <p:spPr>
          <a:xfrm flipH="1" flipV="1">
            <a:off x="2743200" y="4495680"/>
            <a:ext cx="1752480" cy="1524240"/>
          </a:xfrm>
          <a:prstGeom prst="line">
            <a:avLst/>
          </a:prstGeom>
          <a:ln w="25560">
            <a:solidFill>
              <a:srgbClr val="e4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4"/>
          <p:cNvSpPr/>
          <p:nvPr/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hoosing Print Options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17680" y="1682280"/>
            <a:ext cx="73994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You can see how a worksheet would look when printed using: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2872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age Layout tab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1424160" indent="-27972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e dotted line indicates the </a:t>
            </a: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print area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, the area to be printed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2872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rint Pre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1424160" indent="-27972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You can print from this view by clicking the Print button on the Ribbo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4"/>
          <p:cNvSpPr/>
          <p:nvPr/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hoosing Print Options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417680" y="1682280"/>
            <a:ext cx="73994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age Layout tab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2872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age Setup group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1424160" indent="-27972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Print orientation: </a:t>
            </a: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landscape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portrai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2872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cale to Fit group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2872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heet Options group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rint dialog box lets you choose the number of copies, the printer, etc.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4"/>
          <p:cNvSpPr/>
          <p:nvPr/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hoosing Print Options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2514600" y="17524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Worksheet with Portrait ori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6" descr=""/>
          <p:cNvPicPr/>
          <p:nvPr/>
        </p:nvPicPr>
        <p:blipFill>
          <a:blip r:embed="rId1"/>
          <a:stretch/>
        </p:blipFill>
        <p:spPr>
          <a:xfrm>
            <a:off x="2571840" y="2362320"/>
            <a:ext cx="5091120" cy="3816360"/>
          </a:xfrm>
          <a:prstGeom prst="rect">
            <a:avLst/>
          </a:prstGeom>
          <a:ln w="0">
            <a:noFill/>
          </a:ln>
        </p:spPr>
      </p:pic>
      <p:sp>
        <p:nvSpPr>
          <p:cNvPr id="206" name="AutoShape 7"/>
          <p:cNvSpPr/>
          <p:nvPr/>
        </p:nvSpPr>
        <p:spPr>
          <a:xfrm>
            <a:off x="1066680" y="2743200"/>
            <a:ext cx="1279800" cy="685800"/>
          </a:xfrm>
          <a:prstGeom prst="borderCallout1">
            <a:avLst>
              <a:gd name="adj1" fmla="val 18750"/>
              <a:gd name="adj2" fmla="val -8333"/>
              <a:gd name="adj3" fmla="val -19675"/>
              <a:gd name="adj4" fmla="val 182504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4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Layout t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8"/>
          <p:cNvSpPr/>
          <p:nvPr/>
        </p:nvSpPr>
        <p:spPr>
          <a:xfrm>
            <a:off x="1066680" y="4191120"/>
            <a:ext cx="1355760" cy="990360"/>
          </a:xfrm>
          <a:prstGeom prst="borderCallout1">
            <a:avLst>
              <a:gd name="adj1" fmla="val 18750"/>
              <a:gd name="adj2" fmla="val -8333"/>
              <a:gd name="adj3" fmla="val -16027"/>
              <a:gd name="adj4" fmla="val 154333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4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tted line surrounds print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ooter Placeholder 4"/>
          <p:cNvSpPr/>
          <p:nvPr/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Objectives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17680" y="1682280"/>
            <a:ext cx="73994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dit cell entri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nter and edit a simple formula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witch worksheet view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hoose print option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4"/>
          <p:cNvSpPr/>
          <p:nvPr/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8" descr=""/>
          <p:cNvPicPr/>
          <p:nvPr/>
        </p:nvPicPr>
        <p:blipFill>
          <a:blip r:embed="rId1"/>
          <a:srcRect l="0" t="0" r="23794" b="-6660"/>
          <a:stretch/>
        </p:blipFill>
        <p:spPr>
          <a:xfrm>
            <a:off x="2819520" y="2438280"/>
            <a:ext cx="5638680" cy="312444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hoosing Print Options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2819520" y="17524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Worksheet in Print P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5"/>
          <p:cNvSpPr/>
          <p:nvPr/>
        </p:nvSpPr>
        <p:spPr>
          <a:xfrm>
            <a:off x="1143000" y="3048120"/>
            <a:ext cx="1279440" cy="685800"/>
          </a:xfrm>
          <a:prstGeom prst="borderCallout1">
            <a:avLst>
              <a:gd name="adj1" fmla="val 18750"/>
              <a:gd name="adj2" fmla="val -8333"/>
              <a:gd name="adj3" fmla="val -3935"/>
              <a:gd name="adj4" fmla="val 134490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4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6"/>
          <p:cNvSpPr/>
          <p:nvPr/>
        </p:nvSpPr>
        <p:spPr>
          <a:xfrm>
            <a:off x="1066680" y="4191120"/>
            <a:ext cx="1355760" cy="685800"/>
          </a:xfrm>
          <a:prstGeom prst="borderCallout1">
            <a:avLst>
              <a:gd name="adj1" fmla="val 18750"/>
              <a:gd name="adj2" fmla="val -8333"/>
              <a:gd name="adj3" fmla="val -140740"/>
              <a:gd name="adj4" fmla="val 183370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4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om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9"/>
          <p:cNvSpPr/>
          <p:nvPr/>
        </p:nvSpPr>
        <p:spPr>
          <a:xfrm>
            <a:off x="6934320" y="2819520"/>
            <a:ext cx="1600200" cy="914400"/>
          </a:xfrm>
          <a:prstGeom prst="borderCallout1">
            <a:avLst>
              <a:gd name="adj1" fmla="val 18750"/>
              <a:gd name="adj2" fmla="val -8333"/>
              <a:gd name="adj3" fmla="val 19097"/>
              <a:gd name="adj4" fmla="val -110120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4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 Print Preview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ooter Placeholder 4"/>
          <p:cNvSpPr/>
          <p:nvPr/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17680" y="1682280"/>
            <a:ext cx="73994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Understand spreadsheet softwar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our the Excel 2007 window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Understand formula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nter labels and values and use AutoSum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4"/>
          <p:cNvSpPr/>
          <p:nvPr/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Summary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17680" y="1682280"/>
            <a:ext cx="73994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dit cell entri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nter and edit a simple formula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witch worksheet view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hoose print option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ooter Placeholder 4"/>
          <p:cNvSpPr/>
          <p:nvPr/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90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Understanding Spreadsheet Software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7399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Microsoft Excel is an electronic spreadsheet program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287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 </a:t>
            </a: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electronic spreadsheet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program allows you to perform numeric calculation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287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 spreadsheet is called a </a:t>
            </a: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workshee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1424160" indent="-27972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ndividual worksheets are stored in a </a:t>
            </a: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workbook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which is the Excel fi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4"/>
          <p:cNvSpPr/>
          <p:nvPr/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90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Understanding Spreadsheet Software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17680" y="1682280"/>
            <a:ext cx="73994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dvantages of using Exc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2872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nter data quickly and accurately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2872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Recalculate data easily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2872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erform what-if analysi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2872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hange the appearance of information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2872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reate char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2872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hare information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2872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Build on previous work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4"/>
          <p:cNvSpPr/>
          <p:nvPr/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Understanding Spreadsheet Software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2209680" y="1676520"/>
            <a:ext cx="488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ample worksheet with ch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"/>
          <p:cNvPicPr/>
          <p:nvPr/>
        </p:nvPicPr>
        <p:blipFill>
          <a:blip r:embed="rId1"/>
          <a:stretch/>
        </p:blipFill>
        <p:spPr>
          <a:xfrm>
            <a:off x="2286000" y="2171880"/>
            <a:ext cx="5697360" cy="42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4"/>
          <p:cNvSpPr/>
          <p:nvPr/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41360" y="609480"/>
            <a:ext cx="693432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Touring the Excel 2007</a:t>
            </a:r>
            <a:br>
              <a:rPr sz="3600"/>
            </a:b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Window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17680" y="1599840"/>
            <a:ext cx="7399440" cy="47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Name box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displays the active cell addres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formula bar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allows you to enter or edit data in the workshee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e intersection of a row and a column is called a </a:t>
            </a: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cel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Touring the Excel 2007</a:t>
            </a:r>
            <a:br>
              <a:rPr sz="3600"/>
            </a:b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Window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17680" y="1599840"/>
            <a:ext cx="7399440" cy="47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ach cell has its own unique location called a </a:t>
            </a: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cell addres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2872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 cell address is identified by its coordinates (A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e cell in which you are working is called the </a:t>
            </a: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active cel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Sheet tabs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let you switch from sheet to sheet in a workbook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1122480" y="64771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Microsoft Office 2007-Illustrated Introductory, Premium Video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41360" y="698040"/>
            <a:ext cx="69343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Touring the Excel 2007</a:t>
            </a:r>
            <a:br>
              <a:rPr sz="3600"/>
            </a:b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Window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17680" y="1599840"/>
            <a:ext cx="7399440" cy="47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status bar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provides a brief description of the active command or task in progres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mode indicator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provides additional information about certain task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 selection of two or more cells such as B5:B14 is called a </a:t>
            </a: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rang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5T20:50:52Z</dcterms:created>
  <dc:creator/>
  <dc:description/>
  <dc:language>en-US</dc:language>
  <cp:lastModifiedBy>NHBOE</cp:lastModifiedBy>
  <dcterms:modified xsi:type="dcterms:W3CDTF">2012-02-08T14:41:52Z</dcterms:modified>
  <cp:revision>45</cp:revision>
  <dc:subject/>
  <dc:title>Microsoft Office 2007- Illustrated Introductory, Windows XP Edition</dc:title>
</cp:coreProperties>
</file>